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345-C447-465B-811D-F5A77FD2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C01-060D-4429-A46B-BA75D338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519-4839-408C-B92D-6074A033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D69-52B0-4B7A-ADBF-83504EB0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D963-307E-40F4-95E7-2226DCEC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509C-1740-4586-856C-CE70B3D3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00BE-9842-492F-9451-CFCF1E86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59D6-358E-4366-985E-27988826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DB48-2A1E-428A-8393-A6C2318E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6A31-683B-46BC-896B-1280972A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454C-15F9-482A-ADDF-1B7013A5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CA7-FCAD-4EC9-847A-7BCE8258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9196-C653-42D0-8D34-4799D2AF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51FE-AB40-47C8-B737-307C4E0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9C3E-233F-4B3C-8E9F-AA8DA31D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5DB5-343F-4F37-A2F8-F4295597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CD37-0941-4B65-9EF4-0FC4C996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261-9F26-4F6E-8C24-F00CA3D3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D16-0ACD-4B51-8CDB-A3D5DC9B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67B-78F8-46F0-9BC8-C092FDD2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ADE-43CD-4040-B40B-16D3E535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3D2-ED57-4C9F-955F-98C9220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59B-558E-4B62-88CA-3C3711DE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B7F-F0C6-48EA-ABB4-B842ED49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294F-DF0C-44DC-9C61-FE4ECF6BC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09B3-5138-47A4-9F91-9CBB59BBD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t.wikipedia.org/wiki/Ficheiro:Gon&#231;alves_Dia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br/imgres?imgurl=http://sendaluznolar.no.sapo.pt/grav-paisagem.jpg&amp;imgrefurl=http://paisagensbonitas.blogspot.com/2008/03/paisagem-cachoeira_04.html&amp;h=818&amp;w=1178&amp;sz=161&amp;tbnid=a_TQFXtr7T0stM:&amp;tbnh=104&amp;tbnw=150&amp;prev=/images%3Fq%3Dpaisagem&amp;hl=pt-BR&amp;usg=__PNGn6KELQ6dnkl3rXTA9NXiZ314=&amp;ei=aiYgSryrDJXhtgfvtfG_Bg&amp;sa=X&amp;oi=image_result&amp;resnum=1&amp;ct=image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.br/imgres?imgurl=http://sendaluznolar.no.sapo.pt/grav-paisagem.jpg&amp;imgrefurl=http://paisagensbonitas.blogspot.com/2008/03/paisagem-cachoeira_04.html&amp;h=818&amp;w=1178&amp;sz=161&amp;tbnid=a_TQFXtr7T0stM:&amp;tbnh=104&amp;tbnw=150&amp;prev=/images%3Fq%3Dpaisagem&amp;hl=pt-BR&amp;usg=__PNGn6KELQ6dnkl3rXTA9NXiZ314=&amp;ei=aiYgSryrDJXhtgfvtfG_Bg&amp;sa=X&amp;oi=image_result&amp;resnum=1&amp;ct=image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www.google.com.br/imgres?imgurl=http://sendaluznolar.no.sapo.pt/grav-paisagem.jpg&amp;imgrefurl=http://paisagensbonitas.blogspot.com/2008/03/paisagem-cachoeira_04.html&amp;h=818&amp;w=1178&amp;sz=161&amp;tbnid=a_TQFXtr7T0stM:&amp;tbnh=104&amp;tbnw=150&amp;prev=/images%3Fq%3Dpaisagem&amp;hl=pt-BR&amp;usg=__PNGn6KELQ6dnkl3rXTA9NXiZ314=&amp;ei=aiYgSryrDJXhtgfvtfG_Bg&amp;sa=X&amp;oi=image_result&amp;resnum=1&amp;ct=image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www.google.com.br/imgres?imgurl=http://sendaluznolar.no.sapo.pt/grav-paisagem.jpg&amp;imgrefurl=http://paisagensbonitas.blogspot.com/2008/03/paisagem-cachoeira_04.html&amp;h=818&amp;w=1178&amp;sz=161&amp;tbnid=a_TQFXtr7T0stM:&amp;tbnh=104&amp;tbnw=150&amp;prev=/images%3Fq%3Dpaisagem&amp;hl=pt-BR&amp;usg=__PNGn6KELQ6dnkl3rXTA9NXiZ314=&amp;ei=aiYgSryrDJXhtgfvtfG_Bg&amp;sa=X&amp;oi=image_result&amp;resnum=1&amp;ct=image" TargetMode="Externa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guaramatias.com.br/CRESCER/natureza.jpg&amp;imgrefurl=http://www.guaramatias.com.br/&amp;h=319&amp;w=425&amp;sz=188&amp;tbnid=LVLZctDBXnN7kM:&amp;tbnh=95&amp;tbnw=126&amp;prev=/images%3Fq%3Dfotos%2Bda%2Bnatureza&amp;hl=pt-BR&amp;usg=__nNhOOUOUvfMJkg15mKhTa6bwAl4=&amp;ei=5SEgSr-HMMLgtgfau5XOBg&amp;sa=X&amp;oi=image_result&amp;resnum=2&amp;ct=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2.bp.blogspot.com/_EkB85PPBZDA/SVmENFCaL-I/AAAAAAAAACQ/oQLf4pIADng/s320/ceu_estrelado.jpg&amp;imgrefurl=http://poesiadegraca.blogspot.com/2008/12/um-encanto-e-uma-certeza.html&amp;h=245&amp;w=320&amp;sz=17&amp;tbnid=IbP0RGpqZlvYxM:&amp;tbnh=90&amp;tbnw=118&amp;prev=/images%3Fq%3Dc%25C3%25A9u%2Bestrelado&amp;hl=pt-BR&amp;usg=__O9FAIPLgl5_wS0w6uwkL4LqA97Y=&amp;ei=qjYgStzoFuGntgestqjJBg&amp;sa=X&amp;oi=image_result&amp;resnum=4&amp;ct=imag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com.br/imgres?imgurl=http://2.bp.blogspot.com/_EkB85PPBZDA/SVmENFCaL-I/AAAAAAAAACQ/oQLf4pIADng/s320/ceu_estrelado.jpg&amp;imgrefurl=http://poesiadegraca.blogspot.com/2008/12/um-encanto-e-uma-certeza.html&amp;h=245&amp;w=320&amp;sz=17&amp;tbnid=IbP0RGpqZlvYxM:&amp;tbnh=90&amp;tbnw=118&amp;prev=/images%3Fq%3Dc%25C3%25A9u%2Bestrelado&amp;hl=pt-BR&amp;usg=__O9FAIPLgl5_wS0w6uwkL4LqA97Y=&amp;ei=qjYgStzoFuGntgestqjJBg&amp;sa=X&amp;oi=image_result&amp;resnum=4&amp;ct=imag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avespantanal.com.br/imagens/265%2520-%2520Sabi&#225;-barranco/sabi&#225;-barranco-2526-72.jpg&amp;imgrefurl=http://www.avespantanal.com.br/paginas/265.htm&amp;h=467&amp;w=700&amp;sz=63&amp;tbnid=jyWi2ThqIHQ04M:&amp;tbnh=93&amp;tbnw=140&amp;prev=/images%3Fq%3Dfoto%2Bde%2Bsabi%25C3%25A1&amp;hl=pt-BR&amp;usg=__ozymumANR-eJZq8Y7rnCz_dsGfQ=&amp;ei=TCMgSqa_BY6WtgffopnbBg&amp;sa=X&amp;oi=image_result&amp;resnum=2&amp;ct=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33"/>
                </a:solidFill>
                <a:latin typeface="comic"/>
              </a:rPr>
              <a:t>CANÇÃO DO EXÍLIO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92428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"/>
              </a:rPr>
              <a:t>                             </a:t>
            </a:r>
            <a:r>
              <a:rPr b="0" lang="en-US" sz="3200" spc="-1" strike="noStrike">
                <a:solidFill>
                  <a:srgbClr val="66ff33"/>
                </a:solidFill>
                <a:latin typeface="comic"/>
              </a:rPr>
              <a:t>Gonçalves Dias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44640"/>
            <a:ext cx="3549600" cy="501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http://paisagensbonitas.blogspot.com/2008/03/paisagem-cachoeira_04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15160" y="5589720"/>
            <a:ext cx="1428840" cy="99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http://paisagensbonitas.blogspot.com/2008/03/paisagem-cachoeira_04.htm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15160" y="5661000"/>
            <a:ext cx="142884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http://paisagensbonitas.blogspot.com/2008/03/paisagem-cachoeira_04.htm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15160" y="5661000"/>
            <a:ext cx="1428840" cy="99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http://paisagensbonitas.blogspot.com/2008/03/paisagem-cachoeira_04.htm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15160" y="5661000"/>
            <a:ext cx="1428840" cy="990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http://www.guaramatias.com.br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3480"/>
            <a:ext cx="8604360" cy="648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Minha terra tem palmeira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 Onde canta o sabiá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As aves que aqui gorjeiam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não gorjeiam como LÁ</a:t>
            </a:r>
            <a:r>
              <a:rPr b="1" lang="en-US" sz="5400" spc="-1" strike="noStrike">
                <a:solidFill>
                  <a:srgbClr val="008000"/>
                </a:solidFill>
                <a:latin typeface="comic"/>
              </a:rPr>
              <a:t>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http://poesiadegraca.blogspot.com/2008/12/um-encanto-e-uma-certeza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96720" y="-417600"/>
            <a:ext cx="9540720" cy="7275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http://poesiadegraca.blogspot.com/2008/12/um-encanto-e-uma-certeza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1031760"/>
            <a:ext cx="2850840" cy="2175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Nosso céu tem mais estre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Nossas várzeas têm mais flor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Nossos bosques têm mais vid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Nossa vida mais amores</a:t>
            </a:r>
            <a:r>
              <a:rPr b="1" lang="en-US" sz="4000" spc="-1" strike="noStrike">
                <a:solidFill>
                  <a:srgbClr val="66ff33"/>
                </a:solidFill>
                <a:latin typeface="Arial Black"/>
              </a:rPr>
              <a:t>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http://www.avespantanal.com.br/paginas/265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68360" y="0"/>
            <a:ext cx="10118880" cy="6721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Em cismar, sozinho à noi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Mais prazer eu encontro lá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Minha terra têm palmeiras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comic"/>
              </a:rPr>
              <a:t>Onde canta o sabiá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http://pedacosvida.blogspot.com/2006/02/cu-estrelado.html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Minha terra tem primores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Que tais não encontro eu cá;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Em cismar sozinho,à noite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Mais prazer  encontro eu lá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Minha terra tem palmeiras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comic"/>
              </a:rPr>
              <a:t>Onde canta o sabiá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http://blogdaingrith.blogspot.com/2007_12_01_archive.html"/>
          <p:cNvPicPr/>
          <p:nvPr/>
        </p:nvPicPr>
        <p:blipFill>
          <a:blip r:embed="rId1"/>
          <a:stretch/>
        </p:blipFill>
        <p:spPr>
          <a:xfrm>
            <a:off x="1692360" y="0"/>
            <a:ext cx="6799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659880" cy="63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Não permita Deus que eu morra,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Sem que eu volte para lá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Sem que desfrute dos primores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Que não encontro por cá,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Sem que ainda aviste as palmeiras,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comic"/>
              </a:rPr>
              <a:t>Onde canta o sabiá</a:t>
            </a: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cé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63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ESCOLA ESTADUAL SENADOR FILINTO MULLER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Slides elaborado pela profª - SONIA PINEZE DEFENDE</a:t>
            </a:r>
            <a:br>
              <a:rPr sz="4000"/>
            </a:b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Orientação:</a:t>
            </a:r>
            <a:br>
              <a:rPr sz="4000"/>
            </a:b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PROFª -  MARTA ROQUE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Ivinhema – MS </a:t>
            </a:r>
            <a:br>
              <a:rPr sz="4000"/>
            </a:b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29/05/2009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4000">
    <p:checke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7:28:09Z</dcterms:created>
  <dc:creator>Escola</dc:creator>
  <dc:description/>
  <dc:language>en-US</dc:language>
  <cp:lastModifiedBy>Escola</cp:lastModifiedBy>
  <dcterms:modified xsi:type="dcterms:W3CDTF">2009-05-29T20:06:46Z</dcterms:modified>
  <cp:revision>3</cp:revision>
  <dc:subject/>
  <dc:title>CANÇÃO DO EXÍLIO</dc:title>
</cp:coreProperties>
</file>